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1B0F2-E7ED-431E-ABD3-FBDFE1EED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D4306-2232-4BA0-BC64-CF8D86903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E3942-AD1B-4A16-88A0-A3844012C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37F47-7183-40D4-861E-75C3EBAA3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1B3E3-1726-4032-97B0-EC1A4F089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71D3E-9DD5-4DDE-8B54-0F2A81302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BEC66-216F-430B-ACA3-0D87BE069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46B05-5B1A-4590-B3A5-67E9C398C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BB97F-DA77-4DB0-8F60-AB7E5F573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683CA-FD80-4E65-B0FB-100F9EB56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3AA25-45C6-431B-9FA6-C3516DF6A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40A9C-69FF-4203-87C9-533604334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F5F87-0607-4A22-897B-2982F8BD6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AE4E0-4A29-46C4-8FBD-38E4B4971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26EAB-39DA-4E46-9219-FF620DB12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6AFC7-1CB6-40F9-9150-D540CB61B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6E11E-91FA-40E8-B281-36F1EF435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76A05-9E5C-4924-A033-70D39C747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00DED-06B4-499E-BE20-7584268AC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F2476-DCEF-40C6-A4FD-FE36E1FAD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9F7BE-52C2-40B2-A0C5-2878CF7A7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EF803-B03F-4422-9C29-36A0BE3A7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01330-DA90-4AEF-A79D-7A10095EC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D80FA-85D6-4FC5-8D56-53DB0E8B0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28E7B-59A3-49C8-9548-3337E88EDA22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131F7-1E5C-4ECD-8236-E91E67AA7787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2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직의 성격과 </a:t>
            </a:r>
            <a:br>
              <a:rPr sz="5400"/>
            </a:b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          교사의 역할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교에서의 비형식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형식적인 구조에서 허용되지 않는 방식으로 자신을 표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형식적 구조를 통해 형식적 임무수행이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형식적 구조를 통해 공식적인 조직의 목적이나 절차가 수정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의 소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취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신 등의 비형식적 구조가 형식적 구조에 영향을 미침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부수적인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르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촉진자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는 촉진자가 되어야 한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급에서의 교사의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형식화된 지식 전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식적인 교사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회화 중재 역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내면화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을 위한 올바른 평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아실현과 동기부여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역할극이 마감되는 것을 인지하는 교사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자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품과 전문성 겸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이상적인 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언적 접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천적 접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한국교육개발원의 연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나오는 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대정신에 따라 교육내용과 방법이 달라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자질도 달라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그러나 봉사와 사명감은 존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성에 기초한 학생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중심의 교직의 실행력은 곧 바람직한 교사의 자질로 재현될 것이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람이 그리운 사회에서 사람만이 희망이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이란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?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와 교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의사와 의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죄인과 인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특징과 중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을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의 정신생활을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성숙자를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봉사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가와 민족에 영향을 미치는 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진보에 중요한 역할을 담당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7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향상을 도모하기 유리한 직업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을 보는 관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노동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공 봉사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전문성과 자율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전문성과 자율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율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본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에서의 직업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에서의 비형식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부수적인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급에서의 교사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기본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지식과 기술을 전달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회화 과정을 조력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평가의 주체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별평가와 성취평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교에서의 직업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피고용인의 역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경영에서의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장과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부모와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가의 역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다면적인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족관계의 역할을 모두 수행하는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관찰력이 분명하고 정확한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7T01:34:59Z</dcterms:created>
  <dc:creator>XPuser</dc:creator>
  <dc:description/>
  <dc:language>en-US</dc:language>
  <cp:lastModifiedBy>XPuser</cp:lastModifiedBy>
  <dcterms:modified xsi:type="dcterms:W3CDTF">2008-09-17T02:16:16Z</dcterms:modified>
  <cp:revision>6</cp:revision>
  <dc:subject/>
  <dc:title>제 2장 교직의 성격과            교사의 역할</dc:title>
</cp:coreProperties>
</file>